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292D1-26D4-4455-9B0A-9514D7D62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37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3998520"/>
            <a:ext cx="8337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021C8-F83C-46B2-B917-E813910EB2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8280" y="137160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9852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58280" y="399852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EF0DE-D87E-4267-9FEB-C1C63E32D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684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4960" y="1371600"/>
            <a:ext cx="2684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4120" y="1371600"/>
            <a:ext cx="2684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3998520"/>
            <a:ext cx="2684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04960" y="3998520"/>
            <a:ext cx="2684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4120" y="3998520"/>
            <a:ext cx="2684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96CB-4FE4-4197-AC6B-F31129E626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B876D-44A0-4DB1-A6BD-471B886D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8337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F65F9-0881-4BC2-8D86-D2D4141E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3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E6BE7-135A-4335-9694-87516BF4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6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58280" y="1371600"/>
            <a:ext cx="406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DBD0A-3E9F-4F8B-8484-5322C602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245D3-0CC7-43C6-960F-E9E7A8AB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85440" y="-215640"/>
            <a:ext cx="84582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94FD4-EDB6-4A6B-A69F-32AF3DDE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58280" y="1371600"/>
            <a:ext cx="406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99852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4BF68-5F36-497C-8EED-6E9D7F48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8337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859B3-113B-449F-A3DE-7026D54EF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6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58280" y="137160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958280" y="399852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B7E64-5E37-49A5-8D97-CF73AB62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58280" y="137160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98520"/>
            <a:ext cx="8337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B527D-8FA3-40DD-AA85-AE5A68C8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37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85800" y="3998520"/>
            <a:ext cx="8337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569BD-FC3E-4110-8F44-B772A8CA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58280" y="137160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399852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58280" y="399852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EDC1A-C5B9-4636-AC9B-7BCE5239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684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04960" y="1371600"/>
            <a:ext cx="2684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24120" y="1371600"/>
            <a:ext cx="2684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85800" y="3998520"/>
            <a:ext cx="2684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04960" y="3998520"/>
            <a:ext cx="2684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324120" y="3998520"/>
            <a:ext cx="2684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AB2B3-9EC8-4BDA-9E4C-1DDD6F18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3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74BDA-96BB-413C-A440-54F74B356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6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8280" y="1371600"/>
            <a:ext cx="406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E956D-F1D1-4B03-B9D1-A1CA67CA6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0ABBE-03BF-462A-9C6F-2335BD7FD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440" y="-215640"/>
            <a:ext cx="84582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2C6CE-7EBF-4997-A87D-37164A98B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58280" y="1371600"/>
            <a:ext cx="406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9852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28E27-8562-48AB-8981-178F9A7D8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6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58280" y="137160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8280" y="399852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8AF44-DA09-4B87-96AC-82BC2097A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58280" y="137160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98520"/>
            <a:ext cx="8337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EBF47-A542-4054-BFA3-F8589B9B6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240" y="-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94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16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39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66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588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9111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0638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2160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3683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5210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6732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18255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9782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21304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22827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24354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25876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27399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28926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30448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31971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33498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35020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36543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38070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"/>
          <p:cNvSpPr/>
          <p:nvPr/>
        </p:nvSpPr>
        <p:spPr>
          <a:xfrm>
            <a:off x="39592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"/>
          <p:cNvSpPr/>
          <p:nvPr/>
        </p:nvSpPr>
        <p:spPr>
          <a:xfrm>
            <a:off x="41115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"/>
          <p:cNvSpPr/>
          <p:nvPr/>
        </p:nvSpPr>
        <p:spPr>
          <a:xfrm>
            <a:off x="42642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"/>
          <p:cNvSpPr/>
          <p:nvPr/>
        </p:nvSpPr>
        <p:spPr>
          <a:xfrm>
            <a:off x="44164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45687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"/>
          <p:cNvSpPr/>
          <p:nvPr/>
        </p:nvSpPr>
        <p:spPr>
          <a:xfrm>
            <a:off x="47214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"/>
          <p:cNvSpPr/>
          <p:nvPr/>
        </p:nvSpPr>
        <p:spPr>
          <a:xfrm>
            <a:off x="48736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"/>
          <p:cNvSpPr/>
          <p:nvPr/>
        </p:nvSpPr>
        <p:spPr>
          <a:xfrm>
            <a:off x="50259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"/>
          <p:cNvSpPr/>
          <p:nvPr/>
        </p:nvSpPr>
        <p:spPr>
          <a:xfrm>
            <a:off x="51786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"/>
          <p:cNvSpPr/>
          <p:nvPr/>
        </p:nvSpPr>
        <p:spPr>
          <a:xfrm>
            <a:off x="53308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"/>
          <p:cNvSpPr/>
          <p:nvPr/>
        </p:nvSpPr>
        <p:spPr>
          <a:xfrm>
            <a:off x="54831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56358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57880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59403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60930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62452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3975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502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024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47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074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596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119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4646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168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7691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218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740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63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790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5312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6835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362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9884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1120" y="-9360"/>
            <a:ext cx="84628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219320"/>
            <a:ext cx="6950160" cy="7452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833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1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CA58-681E-4879-81BA-9B5FB200AA9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2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3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FDA3-7847-4B99-979E-DB67D71AEB1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400" y="727560"/>
            <a:ext cx="7678800" cy="180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003366"/>
                </a:solidFill>
                <a:latin typeface="Verdana"/>
              </a:rPr>
              <a:t>Prácticas de Estadística Industrial</a:t>
            </a:r>
            <a:endParaRPr b="0" lang="en-US" sz="5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0" y="6172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il’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00400" y="3048120"/>
            <a:ext cx="3200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00"/>
                </a:solidFill>
                <a:latin typeface="Verdana"/>
              </a:rPr>
              <a:t>SPSS</a:t>
            </a:r>
            <a:endParaRPr b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99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Contraste de Hipótesis Paramétrico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240" y="2860560"/>
            <a:ext cx="70866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iferencias en medias para muestras independi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N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iferencias en medias para muestras relaciona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-93960"/>
            <a:ext cx="84582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Verdana"/>
              </a:rPr>
              <a:t>Diferencias en medias: muestras independient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3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naliza si existen diferencias significativas en el valor de una característica estudiada sobre dos grup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jemplo: Contrastar, para cada categoría laboral, la hipótesis de que no existen diferencias significativas en el salario inicial (</a:t>
            </a:r>
            <a:r>
              <a:rPr b="0" lang="es-ES" sz="2800" spc="-1" strike="noStrike">
                <a:solidFill>
                  <a:srgbClr val="336699"/>
                </a:solidFill>
                <a:latin typeface="Verdana"/>
              </a:rPr>
              <a:t>salini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) atendiendo a la experiencia previa (</a:t>
            </a:r>
            <a:r>
              <a:rPr b="0" lang="es-ES" sz="2800" spc="-1" strike="noStrike">
                <a:solidFill>
                  <a:srgbClr val="336699"/>
                </a:solidFill>
                <a:latin typeface="Verdana"/>
              </a:rPr>
              <a:t>expprev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1) Segmentar por categoría labor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2) Comprobar la distribución del salario inici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3) Analizar si existen diferencias significativas en el salario inicial entre los diferentes niveles de experiencia previ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09480" y="2971800"/>
            <a:ext cx="4876920" cy="32511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-93960"/>
            <a:ext cx="84582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Verdana"/>
              </a:rPr>
              <a:t>Diferencias en medias: muestras independientes (ii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3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ueba Kolgomorov-Smirnov para ver si la distribución del salario inicial se asemeja a una nor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Verdana"/>
              </a:rPr>
              <a:t>Analizar/Pruebas no paramétricas/K-S de 1 muestra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6053040" y="3200400"/>
            <a:ext cx="26337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g&gt;0.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 acepta la hipótesis de norm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09680" y="5943600"/>
            <a:ext cx="914400" cy="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0" y="5105520"/>
            <a:ext cx="685800" cy="228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181480" y="4038120"/>
            <a:ext cx="16002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08360" y="6222960"/>
            <a:ext cx="4097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9a0000"/>
            </a:solidFill>
            <a:miter/>
          </a:ln>
          <a:effectLst>
            <a:outerShdw dist="107932" dir="189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est de hipótesis no paramét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-93960"/>
            <a:ext cx="84582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Verdana"/>
              </a:rPr>
              <a:t>Diferencias en medias: muestras independientes (iii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3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685800" y="1828800"/>
          <a:ext cx="265572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265572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3429000" y="1828800"/>
          <a:ext cx="2685960" cy="27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1828800"/>
                    <a:ext cx="26859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6248520" y="1828800"/>
          <a:ext cx="2611440" cy="266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1828800"/>
                    <a:ext cx="261144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7"/>
          <a:stretch/>
        </p:blipFill>
        <p:spPr>
          <a:xfrm>
            <a:off x="380880" y="4622760"/>
            <a:ext cx="2895840" cy="19303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8"/>
          <a:stretch/>
        </p:blipFill>
        <p:spPr>
          <a:xfrm>
            <a:off x="3200400" y="4572000"/>
            <a:ext cx="3048120" cy="20318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9"/>
          <a:stretch/>
        </p:blipFill>
        <p:spPr>
          <a:xfrm>
            <a:off x="6095880" y="457200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-93960"/>
            <a:ext cx="84582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Verdana"/>
              </a:rPr>
              <a:t>Diferencias en medias: muestras independientes (iv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3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ferencias en salario inicial entre valores de exprev2 de </a:t>
            </a:r>
            <a:r>
              <a:rPr b="0" lang="es-ES" sz="2400" spc="-1" strike="noStrike">
                <a:solidFill>
                  <a:srgbClr val="336699"/>
                </a:solidFill>
                <a:latin typeface="Verdana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(10-15 meses) y </a:t>
            </a:r>
            <a:r>
              <a:rPr b="0" lang="es-ES" sz="2400" spc="-1" strike="noStrike">
                <a:solidFill>
                  <a:srgbClr val="336699"/>
                </a:solidFill>
                <a:latin typeface="Verdana"/>
              </a:rPr>
              <a:t>4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(&gt;15 meses), para la categoría laboral </a:t>
            </a:r>
            <a:r>
              <a:rPr b="0" lang="es-ES" sz="2400" spc="-1" strike="noStrike">
                <a:solidFill>
                  <a:srgbClr val="336699"/>
                </a:solidFill>
                <a:latin typeface="Verdana"/>
              </a:rPr>
              <a:t>Direc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Verdana"/>
              </a:rPr>
              <a:t>Analizar/Comparar medias/Prueba T para muestras independien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2362320" y="4114800"/>
          <a:ext cx="4114800" cy="23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114800"/>
                    <a:ext cx="411480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20760" y="2286000"/>
            <a:ext cx="8823240" cy="23684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-93960"/>
            <a:ext cx="84582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Verdana"/>
              </a:rPr>
              <a:t>Diferencias en medias: muestras independientes (v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3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5029200"/>
            <a:ext cx="411480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Arial"/>
              </a:rPr>
              <a:t>1) Prueba de Levene para la igualdad de varianzas: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Si Sig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0.05, se rechaza la hipótesis de igualdad. En este caso se asume la igualdad de varianz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5029200"/>
            <a:ext cx="4419720" cy="1310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Arial"/>
              </a:rPr>
              <a:t>2) Hipótesis de igualdad de media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: Si Sig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0.05 se rechaza la hipótesis de igualdad de medias. En este caso sig=0.014. Como puede observarse, el intervalo de confianza para la diferencia no contiene el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76720" y="3733920"/>
            <a:ext cx="53316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725200" y="3962520"/>
            <a:ext cx="762120" cy="99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3581280"/>
            <a:ext cx="129564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10080" y="3733920"/>
            <a:ext cx="533520" cy="22860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297560" y="3657600"/>
            <a:ext cx="1447920" cy="304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43000" y="3657600"/>
            <a:ext cx="1143000" cy="304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697360" y="3962520"/>
            <a:ext cx="381240" cy="99036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30200" y="1371600"/>
            <a:ext cx="667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No existen diferencias significativas el salario inicial de los directivos con una experiencia previa superior a 10 me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4546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ANOV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3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NOVA: </a:t>
            </a: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An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lysis </a:t>
            </a: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 </a:t>
            </a: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V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i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ANOVA se utiliza para contrastar la igualdad de medias entre más de dos grup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pendiente: La variable en la que se mide el result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actor: Variable que potencialmente afecta sobre la dependi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mide la respuesta de la variable dependiente para distintos valores (niveles) del fact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hipótesis de partida es que el factor no afecta a la variable resulta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4546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ANOVA (ii)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3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Verdana"/>
              </a:rPr>
              <a:t>Analizar/Comparar medias/ANOVA de un fac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jemplo: ¿Existen diferencias en el salario inicial (</a:t>
            </a:r>
            <a:r>
              <a:rPr b="0" lang="es-ES" sz="2800" spc="-1" strike="noStrike">
                <a:solidFill>
                  <a:srgbClr val="336699"/>
                </a:solidFill>
                <a:latin typeface="Verdana"/>
              </a:rPr>
              <a:t>salini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) percibido según la experiencia previa del empleado (</a:t>
            </a:r>
            <a:r>
              <a:rPr b="0" lang="es-ES" sz="2800" spc="-1" strike="noStrike">
                <a:solidFill>
                  <a:srgbClr val="336699"/>
                </a:solidFill>
                <a:latin typeface="Verdana"/>
              </a:rPr>
              <a:t>expprev2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) para cada categoría labora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dministra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guridad: El programa advierte de la imposibilidad de realizar el ANOVA para esta categoría laboral ya que hay menos de dos grupos (sólo empleados más de 15 meses de antigüedad, expprev2=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rec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4546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ANOVA (iii)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3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ost hoc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ukey: Muestra, asumiendo la igualdad de varianzas, la diferencia en medias, dos a 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380960" y="2962440"/>
          <a:ext cx="5781960" cy="32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0960" y="2962440"/>
                    <a:ext cx="578196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4546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ANOVA (iv)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705360" cy="2390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6705360" cy="23907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943600" y="2666880"/>
            <a:ext cx="76212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257800"/>
            <a:ext cx="76212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2560" y="1981080"/>
            <a:ext cx="2341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La experiencia previa es un factor significativo para establecer el salario inicial de los administrativos en esta 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02560" y="4648320"/>
            <a:ext cx="2341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La experiencia previa es un factor no significativo para establecer el salario inicial de los directivos en esta 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71080" y="350532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signific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3120" y="60199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no signific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4546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Contenido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3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nceptos bás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rchivo de trabaj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Intervalo de confianz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ntraste de hipótesis paramétric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ntraste de hipótesis no paramétrico: Tests de bondad de ajuste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4546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ANOVA (v)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6242040" cy="41497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6705720" y="21337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iferencias en medias, en grupos dos a 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95680" y="3657600"/>
            <a:ext cx="533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495680" y="4191120"/>
            <a:ext cx="533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95680" y="4724280"/>
            <a:ext cx="533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38080" y="3352680"/>
            <a:ext cx="381240" cy="152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76520" y="3657600"/>
            <a:ext cx="380880" cy="152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38080" y="3886200"/>
            <a:ext cx="381240" cy="152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76520" y="4191120"/>
            <a:ext cx="380880" cy="152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4419720"/>
            <a:ext cx="381240" cy="152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4724280"/>
            <a:ext cx="380880" cy="152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4952880"/>
            <a:ext cx="381240" cy="152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676520" y="4952880"/>
            <a:ext cx="380880" cy="152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5105520"/>
            <a:ext cx="380880" cy="152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495680" y="4952880"/>
            <a:ext cx="53352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-93960"/>
            <a:ext cx="84582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Verdana"/>
              </a:rPr>
              <a:t>Diferencias en medias: muestras relacionadas 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3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ta prueba mide si existen diferencias en la media de dos variables que están relacionada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jemplo: El efecto de un tratamiento sobre una pieza, midiendo el estado previo y posterior al mism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archivo muestra datos del salario inicial y actual de cada persona. Por categoría laboral, ¿existen diferencias significativas entre estos dos salari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Verdana"/>
              </a:rPr>
              <a:t>Analizar/Comparar medias/Prueba T para muestras relacionadas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048120" y="4800600"/>
          <a:ext cx="3504960" cy="19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4800600"/>
                    <a:ext cx="3504960" cy="19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-93960"/>
            <a:ext cx="84582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Verdana"/>
              </a:rPr>
              <a:t>Diferencias en medias: muestras relacionadas (ii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3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ra el caso de los administrativ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2295360" y="1905120"/>
            <a:ext cx="4553280" cy="13078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2727360" y="3303720"/>
            <a:ext cx="3749760" cy="1116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1039680" y="4492800"/>
            <a:ext cx="7570800" cy="17557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5638680" y="3809880"/>
            <a:ext cx="6858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03680" y="3789360"/>
            <a:ext cx="24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Verdana"/>
              </a:rPr>
              <a:t>Correlación signific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620120" y="556272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370200" y="5892840"/>
            <a:ext cx="233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Verdana"/>
              </a:rPr>
              <a:t>Diferencia signific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48320" y="5562720"/>
            <a:ext cx="129528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361400" y="58928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Verdana"/>
              </a:rPr>
              <a:t>No contiene el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Contraste de Hipótesis no Paramétrico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371240" y="2860560"/>
            <a:ext cx="70866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Kolmogorov-Smirn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ablas de Conting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5155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Verdana"/>
              </a:rPr>
              <a:t>Prueba de Kolmogorov-Smirnov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3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 utiliza para contrastar si una variable se distribuye con una ley determinada (normal, exponencial…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Verdana"/>
              </a:rPr>
              <a:t>Analizar/Pruebas no paramétricas/K-S de 1 muestra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jemplo: Tomando todos los datos, ¿puede afirmarse que el salario actual se distribuye de forma normal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4319640" y="4270320"/>
          <a:ext cx="2462040" cy="25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9640" y="4270320"/>
                    <a:ext cx="2462040" cy="25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5155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Verdana"/>
              </a:rPr>
              <a:t>Prueba de Kolmogorov-Smirnov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3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l histograma muestra una forma que dista bastante de la campana de Gauss. La prueba de K-S da una significación de 0,000, con lo que se rechaza la hipótesis nula de normalida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981080" y="3505320"/>
            <a:ext cx="487692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4546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Tablas de contingenci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3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 utiliza para estudiar la independencia entre dos variables discret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Verdana"/>
              </a:rPr>
              <a:t>Analizar/Estadísticos Descriptivos/Tablas de Conting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jemplo: Comprobar si la categoría laboral depende del sex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4800600" y="3505320"/>
          <a:ext cx="4038480" cy="30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505320"/>
                    <a:ext cx="403848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990720" y="4278240"/>
            <a:ext cx="3657600" cy="100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Estadísticos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Chi-cuad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Casillas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Frecuencias observadas y esper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17160" y="46080"/>
            <a:ext cx="863748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Verdana"/>
              </a:rPr>
              <a:t>Tablas de contingencia:</a:t>
            </a: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336699"/>
                </a:solidFill>
                <a:latin typeface="Verdana"/>
              </a:rPr>
              <a:t>Resultado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2090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359000" y="2165400"/>
            <a:ext cx="7351560" cy="37432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7086600" y="3581280"/>
            <a:ext cx="1295280" cy="3812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324480" y="3962520"/>
            <a:ext cx="1067040" cy="1752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14400" y="577548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iste dependencia  entre las características estudiadas cuando sig&lt;0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172200" y="3657600"/>
            <a:ext cx="762120" cy="304920"/>
          </a:xfrm>
          <a:prstGeom prst="ellipse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5409720" y="2286000"/>
            <a:ext cx="762120" cy="144792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09000" y="1828800"/>
            <a:ext cx="66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rados de libertad = (f-1)(c-1) = (2-1) (3-1)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17160" y="46080"/>
            <a:ext cx="863748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Verdana"/>
              </a:rPr>
              <a:t>Tablas de contingencia:</a:t>
            </a: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336699"/>
                </a:solidFill>
                <a:latin typeface="Verdana"/>
              </a:rPr>
              <a:t>Resultado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4546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Conceptos Básico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3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ferencia Estadís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Muestre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Intervalo de Confianza: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Tiene por objeto hallar, a partir de una muestra, un intervalo donde es muy probable se halle el verdadero valor del parámet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Test de Hipótesis: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iene por objeto “contrastar” una teoría o idea a priori sobre la variable de interés con los datos reales obtenidos a partir de una muest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arámetrico: La hipótesis se realiza sobre el valor de un parámetro. Ejemplos: comparar si dos distribuciones son iguales (media y varianza), relación entre variables (correlación)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 paramétrico: No se comprueba el valor de un parámetro. Ejemplos: tipo de distribución (normal, exponencial), frecuencias observadas frente a esperadas...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4546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Conceptos Básico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3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rocedimiento para realizar un contraste de hipótesis con SP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lección del T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fija el intervalo de confianza, I.C. (normalmente 95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C= 1- </a:t>
            </a: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sultado de SPSS (significación bilatera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Sig= Significación estadística (otros programas lo llaman p-valor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sig&lt;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se rechaza la hipótesis nula plante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4546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Archivo de dato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3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Base da datos: </a:t>
            </a:r>
            <a:r>
              <a:rPr b="0" lang="es-ES" sz="2800" spc="-1" strike="noStrike">
                <a:solidFill>
                  <a:srgbClr val="336699"/>
                </a:solidFill>
                <a:latin typeface="Verdana"/>
              </a:rPr>
              <a:t>Emple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Variab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Sex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echa de nacimi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ivel educa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ategoría labor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Salario actu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Salario inici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eses desde el contra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xperiencia previa (mes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lasificación étnic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4546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Archivo de datos (ii)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3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rear una nueva variable </a:t>
            </a:r>
            <a:r>
              <a:rPr b="0" lang="es-ES" sz="2800" spc="-1" strike="noStrike">
                <a:solidFill>
                  <a:srgbClr val="336699"/>
                </a:solidFill>
                <a:latin typeface="Verdana"/>
              </a:rPr>
              <a:t>expprev2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(meses),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cuyos valores dependan de exprev de la siguiente maner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xpprev &lt; 5  mese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expprev &lt; 10 mese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10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expprev &lt; 15 mese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xpprev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15 mese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nsformar/Recodificar/En distintas vari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4876920" y="3276720"/>
            <a:ext cx="68580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76920" y="3581280"/>
            <a:ext cx="68580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3886200"/>
            <a:ext cx="68580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2895480"/>
            <a:ext cx="68580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971800" y="4979880"/>
          <a:ext cx="2819520" cy="18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979880"/>
                    <a:ext cx="281952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Intervalos de Confianz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-93960"/>
            <a:ext cx="84582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Verdana"/>
              </a:rPr>
              <a:t>Intervalo de confianza para la media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Intervalo que contiene el valor de la media con una probabilidad al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Verdana"/>
              </a:rPr>
              <a:t>Analizar/Estadísticos descriptivos/Explorar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jemplo:Intervalo de confianza para el salario inicial (</a:t>
            </a:r>
            <a:r>
              <a:rPr b="0" lang="es-ES" sz="2200" spc="-1" strike="noStrike">
                <a:solidFill>
                  <a:srgbClr val="336699"/>
                </a:solidFill>
                <a:latin typeface="Verdana"/>
              </a:rPr>
              <a:t>salini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) dependiendo de la experiencia previa (</a:t>
            </a:r>
            <a:r>
              <a:rPr b="0" lang="es-ES" sz="2200" spc="-1" strike="noStrike">
                <a:solidFill>
                  <a:srgbClr val="336699"/>
                </a:solidFill>
                <a:latin typeface="Verdana"/>
              </a:rPr>
              <a:t>expprev2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362320" y="3886200"/>
          <a:ext cx="5419440" cy="26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886200"/>
                    <a:ext cx="541944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rcRect l="0" t="0" r="0" b="49454"/>
          <a:stretch/>
        </p:blipFill>
        <p:spPr>
          <a:xfrm>
            <a:off x="1595520" y="1447920"/>
            <a:ext cx="5952960" cy="51814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-93960"/>
            <a:ext cx="84582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Verdana"/>
              </a:rPr>
              <a:t>Intervalo de confianza para la media (ii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3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5867280" y="1981080"/>
            <a:ext cx="7621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91320" y="4343400"/>
            <a:ext cx="83808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12:40:29Z</dcterms:created>
  <dc:creator>eviles</dc:creator>
  <dc:description/>
  <dc:language>en-US</dc:language>
  <cp:lastModifiedBy>iricondo</cp:lastModifiedBy>
  <dcterms:modified xsi:type="dcterms:W3CDTF">2004-04-29T13:09:27Z</dcterms:modified>
  <cp:revision>88</cp:revision>
  <dc:subject/>
  <dc:title>Tema 6. Estadística Descriptiva e Introducción a la Inferencia Estadística </dc:title>
</cp:coreProperties>
</file>